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drumroll.wav" ContentType="audio/x-wav"/>
  <Override PartName="/ppt/media/applause.wav" ContentType="audio/x-wav"/>
  <Override PartName="/ppt/media/image2.jpeg" ContentType="image/jpeg"/>
  <Override PartName="/ppt/media/image3.png" ContentType="image/png"/>
  <Override PartName="/ppt/media/image4.gif" ContentType="image/gif"/>
  <Override PartName="/ppt/media/image6.jpeg" ContentType="image/jpeg"/>
  <Override PartName="/ppt/media/image5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7298-D7BC-4C0E-8E30-A9997FB40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B334-49F7-4D02-8218-EEAE55B18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CA8F-8DA1-47DA-BD4E-9B0061414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F952-5116-4838-9B7E-C6D45645B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B06D5-1836-4E28-9A7B-D010A8461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B9AB6-5456-4880-9A6E-4A6223241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45E63-2DB7-495E-AF1B-0E7B60E7B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58910-4AEF-4541-A1AD-36352646E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16E91-0CC0-45FC-BEAA-2EE3C7B1F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34E80-3206-4E71-9830-1AACFAB93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29900-B60A-406A-B695-DFB5F80A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AD00-2AE4-4B30-8DAB-8EB81B19C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267CA-6802-403D-B224-7645FFA3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58871-C731-480C-A371-72CC0E147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7CC3D-23E4-42E8-8659-C082A2BB0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2C523-34AA-4FEA-AD29-BFB94492D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4AD60-4E21-4854-A652-EC7DA57AF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96F8-11CF-43F7-A9CB-7F770DCE8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508A-8F36-4D6D-89B9-2D73B2FBA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1320-3B1C-4F3C-86EC-85E20DC6C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5DBA-B9CB-4796-B555-0AFB8F49E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CB08-4CAA-4E03-B1BD-47C59C5BD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1619-8DAF-4FEC-8BB6-C9B756A03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7CC0-70A0-48F6-B3C9-411A83AA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A8D3B-0655-4608-8048-AB2C41B45A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CC431-1746-4CC3-A07C-1DCECF1480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560" y="2666880"/>
            <a:ext cx="4724280" cy="19814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1920" y="563832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Gra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it 6 Week 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Text Box 48"/>
          <p:cNvSpPr/>
          <p:nvPr/>
        </p:nvSpPr>
        <p:spPr>
          <a:xfrm>
            <a:off x="457200" y="2286000"/>
            <a:ext cx="3505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King Midas and the Golden Touch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Picture 56" descr="KING MIDAS AND THE GOLDEN TOUCH"/>
          <p:cNvPicPr/>
          <p:nvPr/>
        </p:nvPicPr>
        <p:blipFill>
          <a:blip r:embed="rId1"/>
          <a:stretch/>
        </p:blipFill>
        <p:spPr>
          <a:xfrm>
            <a:off x="5181480" y="304920"/>
            <a:ext cx="3359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6840" y="456840"/>
            <a:ext cx="79246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 had a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spoonful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of ice cream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 much as a spoon will hol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ngle serving siz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685800" y="3581280"/>
            <a:ext cx="754380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0" y="4568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scientist found a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precious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artifact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unfamilia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valuabl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2438280" y="4952880"/>
            <a:ext cx="34290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0769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 was known for being an honest man throughout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realm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rea ruled by a king or quee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mmunit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838080" y="3657600"/>
            <a:ext cx="723924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51920" y="4568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he planned to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adorn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the room with flower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c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2819520" y="5257800"/>
            <a:ext cx="3200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151920" y="4568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doctor needs to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cleanse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his hands between patient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spe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s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2743200" y="5181480"/>
            <a:ext cx="327672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360" y="3276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0000"/>
                </a:solidFill>
                <a:latin typeface="Comic Sans MS"/>
              </a:rPr>
              <a:t>You’ve got it!</a:t>
            </a:r>
            <a:endParaRPr b="0" lang="en-US" sz="10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88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04920" y="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Words to Know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380880" y="1295280"/>
            <a:ext cx="3353040" cy="8384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adorn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304920" y="2743200"/>
            <a:ext cx="3276360" cy="9907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cleanse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Rectangle 8"/>
          <p:cNvSpPr/>
          <p:nvPr/>
        </p:nvSpPr>
        <p:spPr>
          <a:xfrm>
            <a:off x="685800" y="4267080"/>
            <a:ext cx="2666880" cy="914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lifeles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4419720" y="1447920"/>
            <a:ext cx="3504960" cy="914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preciou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Rectangle 10"/>
          <p:cNvSpPr/>
          <p:nvPr/>
        </p:nvSpPr>
        <p:spPr>
          <a:xfrm>
            <a:off x="4800600" y="3352680"/>
            <a:ext cx="3200400" cy="9907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realm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4876920" y="5181480"/>
            <a:ext cx="3657600" cy="9907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poonful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809520" y="2057040"/>
            <a:ext cx="4800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o add beauty to; put ornaments on; decorate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4419720" y="457200"/>
            <a:ext cx="3047760" cy="12952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adorn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380880" y="304920"/>
            <a:ext cx="3353040" cy="48765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adorn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leanse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lifeles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preciou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realm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poonful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Picture 6" descr="MPj04329890000[1]"/>
          <p:cNvPicPr/>
          <p:nvPr/>
        </p:nvPicPr>
        <p:blipFill>
          <a:blip r:embed="rId1"/>
          <a:stretch/>
        </p:blipFill>
        <p:spPr>
          <a:xfrm>
            <a:off x="380880" y="457200"/>
            <a:ext cx="37083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343040" y="2133360"/>
            <a:ext cx="4267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to make clean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4495680" y="762120"/>
            <a:ext cx="3048120" cy="12952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leanse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380880" y="304920"/>
            <a:ext cx="3353040" cy="48765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adorn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leanse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lifeles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preciou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realm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poonful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Picture 8" descr="MCj04418050000[1]"/>
          <p:cNvPicPr/>
          <p:nvPr/>
        </p:nvPicPr>
        <p:blipFill>
          <a:blip r:embed="rId1"/>
          <a:stretch/>
        </p:blipFill>
        <p:spPr>
          <a:xfrm>
            <a:off x="380880" y="1600200"/>
            <a:ext cx="40388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343040" y="2133360"/>
            <a:ext cx="4267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without life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4800600" y="609480"/>
            <a:ext cx="3048120" cy="1295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lifeles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Rectangle 9"/>
          <p:cNvSpPr/>
          <p:nvPr/>
        </p:nvSpPr>
        <p:spPr>
          <a:xfrm>
            <a:off x="380880" y="304920"/>
            <a:ext cx="3353040" cy="48765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adorn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leanse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lifeles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preciou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realm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poonful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10" descr="MMj02190780000[1]"/>
          <p:cNvPicPr/>
          <p:nvPr/>
        </p:nvPicPr>
        <p:blipFill>
          <a:blip r:embed="rId1"/>
          <a:stretch/>
        </p:blipFill>
        <p:spPr>
          <a:xfrm>
            <a:off x="617400" y="1676520"/>
            <a:ext cx="26290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0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809520" y="2057040"/>
            <a:ext cx="4800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having great value; worth much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4419720" y="457200"/>
            <a:ext cx="3047760" cy="12952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preciou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380880" y="304920"/>
            <a:ext cx="3353040" cy="48765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adorn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leanse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lifeles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preciou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realm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poonful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Picture 10" descr="MPj04392530000[1]"/>
          <p:cNvPicPr/>
          <p:nvPr/>
        </p:nvPicPr>
        <p:blipFill>
          <a:blip r:embed="rId1"/>
          <a:stretch/>
        </p:blipFill>
        <p:spPr>
          <a:xfrm>
            <a:off x="533520" y="1905120"/>
            <a:ext cx="350496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876560" y="2057040"/>
            <a:ext cx="3733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kingdom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4419720" y="457200"/>
            <a:ext cx="2666880" cy="9907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realm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380880" y="304920"/>
            <a:ext cx="3353040" cy="48765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adorn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leanse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lifeles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preciou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realm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poonful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Picture 9" descr="MPj04386430000[1]"/>
          <p:cNvPicPr/>
          <p:nvPr/>
        </p:nvPicPr>
        <p:blipFill>
          <a:blip r:embed="rId1"/>
          <a:stretch/>
        </p:blipFill>
        <p:spPr>
          <a:xfrm>
            <a:off x="0" y="2940120"/>
            <a:ext cx="5867280" cy="39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2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343040" y="2590560"/>
            <a:ext cx="4267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as much as a spoon can hold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4876920" y="762120"/>
            <a:ext cx="3047760" cy="12952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poonful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380880" y="304920"/>
            <a:ext cx="3353040" cy="48765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adorn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leanse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lifeles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preciou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realm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poonful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Picture 7" descr="MPj04329530000[1]"/>
          <p:cNvPicPr/>
          <p:nvPr/>
        </p:nvPicPr>
        <p:blipFill>
          <a:blip r:embed="rId1"/>
          <a:stretch/>
        </p:blipFill>
        <p:spPr>
          <a:xfrm>
            <a:off x="0" y="0"/>
            <a:ext cx="427356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8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228240" y="4568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tone was cold and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lifeless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unbelievable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not alive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2743200" y="4648320"/>
            <a:ext cx="373392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3T04:11:38Z</dcterms:created>
  <dc:creator>Jefferson County BoE</dc:creator>
  <dc:description/>
  <dc:language>en-US</dc:language>
  <cp:lastModifiedBy>Lynne M. Gorman</cp:lastModifiedBy>
  <dcterms:modified xsi:type="dcterms:W3CDTF">2012-03-05T15:45:41Z</dcterms:modified>
  <cp:revision>129</cp:revision>
  <dc:subject/>
  <dc:title>Frindle Vocabulary Words</dc:title>
</cp:coreProperties>
</file>